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8CB-2AEF-443E-A27A-86F59C4A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742-3779-48C1-92E4-B6B6F8A1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ED3-5A0C-4B82-A26C-7EF6FBC2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DF8-46B0-43E4-B293-95559589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090-91F8-4C17-B89E-B28AABB8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FF2-E408-4760-9951-1FC7C1FA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E38-4603-438B-864C-493C256D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86A-4066-492C-B698-8756A60A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306-7492-4935-9D31-5400F13E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E97-1F10-4636-83DD-DC1D5DF6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79E-712C-4015-9414-C0955D04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884-62B0-44CA-AC04-8F740256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FFD7-914A-4991-BDB4-4CF6B131D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71800" y="713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Текут, текут - не вытек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Бегут, бегут – не выб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4910040" cy="199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мульт земной шар"/>
          <p:cNvPicPr/>
          <p:nvPr/>
        </p:nvPicPr>
        <p:blipFill>
          <a:blip r:embed="rId3"/>
          <a:stretch/>
        </p:blipFill>
        <p:spPr>
          <a:xfrm>
            <a:off x="0" y="214200"/>
            <a:ext cx="21240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945680" y="614376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. И. Левитан.  Вечерний зв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Arial"/>
              </a:rPr>
              <a:t>Что такое ре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Река – постоянно текущ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Рисунок19.jpg"/>
          <p:cNvPicPr/>
          <p:nvPr/>
        </p:nvPicPr>
        <p:blipFill>
          <a:blip r:embed="rId2"/>
          <a:stretch/>
        </p:blipFill>
        <p:spPr>
          <a:xfrm>
            <a:off x="285840" y="2571840"/>
            <a:ext cx="4635360" cy="3500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Рисунок18.jpg"/>
          <p:cNvPicPr/>
          <p:nvPr/>
        </p:nvPicPr>
        <p:blipFill>
          <a:blip r:embed="rId3"/>
          <a:stretch/>
        </p:blipFill>
        <p:spPr>
          <a:xfrm>
            <a:off x="5357880" y="1928880"/>
            <a:ext cx="3506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4" descr="Рисунок11.jpg"/>
          <p:cNvPicPr/>
          <p:nvPr/>
        </p:nvPicPr>
        <p:blipFill>
          <a:blip r:embed="rId2"/>
          <a:stretch/>
        </p:blipFill>
        <p:spPr>
          <a:xfrm>
            <a:off x="960480" y="1357200"/>
            <a:ext cx="7223040" cy="51595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Схема ре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8954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7400" y="175248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17220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 flipV="1">
            <a:off x="5181480" y="2286000"/>
            <a:ext cx="9907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4190760" y="2438280"/>
            <a:ext cx="1981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3071880" y="4214880"/>
            <a:ext cx="20574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857240" y="52149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 repeatCount="2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2000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 repeatCount="200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 repeatCount="200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Рисунок10.jpg"/>
          <p:cNvPicPr/>
          <p:nvPr/>
        </p:nvPicPr>
        <p:blipFill>
          <a:blip r:embed="rId2"/>
          <a:stretch/>
        </p:blipFill>
        <p:spPr>
          <a:xfrm>
            <a:off x="1211400" y="1071720"/>
            <a:ext cx="6721200" cy="5537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Ре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460680" y="1677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278160" y="19162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556000" y="3284640"/>
            <a:ext cx="5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347920" y="314172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ы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516200" y="3643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52132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792600" y="587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578840" y="364500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5293800" y="44370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3419640" y="580536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Arial"/>
              </a:rPr>
              <a:t>Давайте повто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о.jpg"/>
          <p:cNvPicPr/>
          <p:nvPr/>
        </p:nvPicPr>
        <p:blipFill>
          <a:blip r:embed="rId2"/>
          <a:stretch/>
        </p:blipFill>
        <p:spPr>
          <a:xfrm>
            <a:off x="1633680" y="3857760"/>
            <a:ext cx="587664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Рисунок1.jpg"/>
          <p:cNvPicPr/>
          <p:nvPr/>
        </p:nvPicPr>
        <p:blipFill>
          <a:blip r:embed="rId3"/>
          <a:stretch/>
        </p:blipFill>
        <p:spPr>
          <a:xfrm>
            <a:off x="928800" y="1214280"/>
            <a:ext cx="76136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14:26Z</dcterms:created>
  <dc:creator>USER</dc:creator>
  <dc:description/>
  <dc:language>en-US</dc:language>
  <cp:lastModifiedBy>Сергей</cp:lastModifiedBy>
  <dcterms:modified xsi:type="dcterms:W3CDTF">2011-12-22T21:22:28Z</dcterms:modified>
  <cp:revision>20</cp:revision>
  <dc:subject/>
  <dc:title>Слайд 1</dc:title>
</cp:coreProperties>
</file>